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1DF-149D-4918-ADC1-568D5D7F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331-44E7-465E-A585-6F5CF496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E79-5CD6-4F96-AE80-765C3F0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681-7526-4991-AA49-DF74AA5B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8C2-5619-42AA-8642-97E03F8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87B-0754-47AF-AF78-A02327B9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34C-8EDF-4919-898C-4139998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1EE-8943-4A42-8FA6-F574899C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CE6-CB00-4004-B67B-0700CBC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F0C-FB0A-44DC-8922-283E47A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438-9AF4-4441-88F9-5CBA4CA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0CE-BE10-4483-AF23-079566A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95B62-9B34-46E7-AD5C-10E028CF3A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arallelogram 109"/>
          <p:cNvSpPr/>
          <p:nvPr/>
        </p:nvSpPr>
        <p:spPr>
          <a:xfrm flipV="1" rot="5400000">
            <a:off x="790560" y="-790560"/>
            <a:ext cx="7562880" cy="9144000"/>
          </a:xfrm>
          <a:prstGeom prst="parallelogram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arallelogram 111"/>
          <p:cNvSpPr/>
          <p:nvPr/>
        </p:nvSpPr>
        <p:spPr>
          <a:xfrm rot="5400000">
            <a:off x="1925640" y="2387160"/>
            <a:ext cx="5292720" cy="9144000"/>
          </a:xfrm>
          <a:prstGeom prst="parallelogram">
            <a:avLst>
              <a:gd name="adj" fmla="val 25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2"/>
          <p:cNvSpPr/>
          <p:nvPr/>
        </p:nvSpPr>
        <p:spPr>
          <a:xfrm>
            <a:off x="190440" y="597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TEMA:  FOLCLORE BRASILEIR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98"/>
          <p:cNvSpPr/>
          <p:nvPr/>
        </p:nvSpPr>
        <p:spPr>
          <a:xfrm>
            <a:off x="2103480" y="2724120"/>
            <a:ext cx="64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LÍNGUA PORTUGUE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º ANO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9"/>
          <p:cNvSpPr/>
          <p:nvPr/>
        </p:nvSpPr>
        <p:spPr>
          <a:xfrm>
            <a:off x="1440000" y="0"/>
            <a:ext cx="7704000" cy="2419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07"/>
          <p:cNvSpPr/>
          <p:nvPr/>
        </p:nvSpPr>
        <p:spPr>
          <a:xfrm>
            <a:off x="1440000" y="8748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DUCAÇÃO HÍBR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.E.EDUARDO BATISTA AMOR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ROGETEC: RAFAEL SANTOS DA CRU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IBAS DO RIO PARDO - 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19"/>
          <p:cNvGrpSpPr/>
          <p:nvPr/>
        </p:nvGrpSpPr>
        <p:grpSpPr>
          <a:xfrm>
            <a:off x="0" y="10891800"/>
            <a:ext cx="9144000" cy="16019640"/>
            <a:chOff x="0" y="10891800"/>
            <a:chExt cx="9144000" cy="16019640"/>
          </a:xfrm>
        </p:grpSpPr>
        <p:sp>
          <p:nvSpPr>
            <p:cNvPr id="48" name="Parallelogram 220"/>
            <p:cNvSpPr/>
            <p:nvPr/>
          </p:nvSpPr>
          <p:spPr>
            <a:xfrm rot="5400000">
              <a:off x="-3437640" y="14329440"/>
              <a:ext cx="16019640" cy="9144000"/>
            </a:xfrm>
            <a:prstGeom prst="parallelogram">
              <a:avLst>
                <a:gd name="adj" fmla="val 870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val 223"/>
            <p:cNvSpPr/>
            <p:nvPr/>
          </p:nvSpPr>
          <p:spPr>
            <a:xfrm>
              <a:off x="2070000" y="15611400"/>
              <a:ext cx="1008000" cy="100800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224"/>
            <p:cNvSpPr/>
            <p:nvPr/>
          </p:nvSpPr>
          <p:spPr>
            <a:xfrm>
              <a:off x="3932280" y="16141680"/>
              <a:ext cx="1164960" cy="116352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val 225"/>
            <p:cNvSpPr/>
            <p:nvPr/>
          </p:nvSpPr>
          <p:spPr>
            <a:xfrm>
              <a:off x="6015240" y="15717960"/>
              <a:ext cx="1079280" cy="10666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6"/>
            <p:cNvSpPr/>
            <p:nvPr/>
          </p:nvSpPr>
          <p:spPr>
            <a:xfrm>
              <a:off x="2531880" y="14998680"/>
              <a:ext cx="109440" cy="71892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27"/>
            <p:cNvSpPr/>
            <p:nvPr/>
          </p:nvSpPr>
          <p:spPr>
            <a:xfrm>
              <a:off x="4462560" y="15031800"/>
              <a:ext cx="109440" cy="1226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28"/>
            <p:cNvSpPr/>
            <p:nvPr/>
          </p:nvSpPr>
          <p:spPr>
            <a:xfrm>
              <a:off x="6502320" y="15120720"/>
              <a:ext cx="109440" cy="7696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229"/>
            <p:cNvSpPr/>
            <p:nvPr/>
          </p:nvSpPr>
          <p:spPr>
            <a:xfrm>
              <a:off x="753480" y="17695800"/>
              <a:ext cx="7323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PRODUÇÃO DE UMA VÍDEO NARRADO E ILUSTRADO PELOS ALUNO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86"/>
            <p:cNvSpPr/>
            <p:nvPr/>
          </p:nvSpPr>
          <p:spPr>
            <a:xfrm>
              <a:off x="1960560" y="24065280"/>
              <a:ext cx="571320" cy="876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81"/>
            <p:cNvSpPr/>
            <p:nvPr/>
          </p:nvSpPr>
          <p:spPr>
            <a:xfrm>
              <a:off x="2792520" y="23738040"/>
              <a:ext cx="571320" cy="9363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76"/>
            <p:cNvSpPr/>
            <p:nvPr/>
          </p:nvSpPr>
          <p:spPr>
            <a:xfrm>
              <a:off x="3646440" y="23877720"/>
              <a:ext cx="571320" cy="1038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71"/>
            <p:cNvSpPr/>
            <p:nvPr/>
          </p:nvSpPr>
          <p:spPr>
            <a:xfrm>
              <a:off x="4525920" y="23589000"/>
              <a:ext cx="571320" cy="12445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61"/>
            <p:cNvSpPr/>
            <p:nvPr/>
          </p:nvSpPr>
          <p:spPr>
            <a:xfrm>
              <a:off x="6326280" y="23033160"/>
              <a:ext cx="571320" cy="21114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56"/>
            <p:cNvSpPr/>
            <p:nvPr/>
          </p:nvSpPr>
          <p:spPr>
            <a:xfrm>
              <a:off x="7170840" y="23612760"/>
              <a:ext cx="571320" cy="73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arallelogram 294"/>
          <p:cNvSpPr/>
          <p:nvPr/>
        </p:nvSpPr>
        <p:spPr>
          <a:xfrm flipH="1" rot="16200000">
            <a:off x="580320" y="6595200"/>
            <a:ext cx="7983360" cy="9144000"/>
          </a:xfrm>
          <a:prstGeom prst="parallelogram">
            <a:avLst>
              <a:gd name="adj" fmla="val -23419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95"/>
          <p:cNvSpPr/>
          <p:nvPr/>
        </p:nvSpPr>
        <p:spPr>
          <a:xfrm>
            <a:off x="0" y="8128080"/>
            <a:ext cx="7704000" cy="10666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6"/>
          <p:cNvSpPr/>
          <p:nvPr/>
        </p:nvSpPr>
        <p:spPr>
          <a:xfrm>
            <a:off x="246240" y="8377200"/>
            <a:ext cx="73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ETODOLOGI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97"/>
          <p:cNvSpPr/>
          <p:nvPr/>
        </p:nvSpPr>
        <p:spPr>
          <a:xfrm>
            <a:off x="515880" y="11061720"/>
            <a:ext cx="802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LENDAS BRASILEIRAS NA 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ÃO DA SALA DE AULA EM CINCO GRUP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R VÍDEOS DE LENDAS NARR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ÇÃO DE ÁUDIO DAS LENDAS ESCOLH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USTRAR NARRATIVAS FEITAS PELOS ALUN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98"/>
          <p:cNvSpPr/>
          <p:nvPr/>
        </p:nvSpPr>
        <p:spPr>
          <a:xfrm>
            <a:off x="1096920" y="9499680"/>
            <a:ext cx="1006560" cy="1008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99"/>
          <p:cNvSpPr/>
          <p:nvPr/>
        </p:nvSpPr>
        <p:spPr>
          <a:xfrm>
            <a:off x="2959200" y="9605880"/>
            <a:ext cx="1163520" cy="11638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00"/>
          <p:cNvSpPr/>
          <p:nvPr/>
        </p:nvSpPr>
        <p:spPr>
          <a:xfrm>
            <a:off x="5041800" y="9393120"/>
            <a:ext cx="1079640" cy="10670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01"/>
          <p:cNvSpPr/>
          <p:nvPr/>
        </p:nvSpPr>
        <p:spPr>
          <a:xfrm>
            <a:off x="1557360" y="8885160"/>
            <a:ext cx="111240" cy="720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02"/>
          <p:cNvSpPr/>
          <p:nvPr/>
        </p:nvSpPr>
        <p:spPr>
          <a:xfrm>
            <a:off x="3487680" y="8920080"/>
            <a:ext cx="11124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03"/>
          <p:cNvSpPr/>
          <p:nvPr/>
        </p:nvSpPr>
        <p:spPr>
          <a:xfrm>
            <a:off x="5529240" y="9009000"/>
            <a:ext cx="109440" cy="770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4"/>
          <p:cNvSpPr/>
          <p:nvPr/>
        </p:nvSpPr>
        <p:spPr>
          <a:xfrm>
            <a:off x="0" y="14095440"/>
            <a:ext cx="77058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05"/>
          <p:cNvSpPr/>
          <p:nvPr/>
        </p:nvSpPr>
        <p:spPr>
          <a:xfrm>
            <a:off x="299880" y="14284440"/>
            <a:ext cx="73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Impact"/>
              </a:rPr>
              <a:t>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07" descr="HubSpot low-res for light backgrounds.png"/>
          <p:cNvPicPr/>
          <p:nvPr/>
        </p:nvPicPr>
        <p:blipFill>
          <a:blip r:embed="rId1"/>
          <a:stretch/>
        </p:blipFill>
        <p:spPr>
          <a:xfrm>
            <a:off x="190440" y="26838360"/>
            <a:ext cx="1440000" cy="417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04"/>
          <p:cNvSpPr/>
          <p:nvPr/>
        </p:nvSpPr>
        <p:spPr>
          <a:xfrm>
            <a:off x="1438200" y="19086480"/>
            <a:ext cx="77058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05"/>
          <p:cNvSpPr/>
          <p:nvPr/>
        </p:nvSpPr>
        <p:spPr>
          <a:xfrm>
            <a:off x="1630440" y="19296000"/>
            <a:ext cx="73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Impact"/>
              </a:rPr>
              <a:t>CULMINÂ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9"/>
          <p:cNvSpPr/>
          <p:nvPr/>
        </p:nvSpPr>
        <p:spPr>
          <a:xfrm>
            <a:off x="299880" y="21016800"/>
            <a:ext cx="8655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SSAR O VÍDEO PRODUZIDO PELOS ALUNOS NO FECHAMENTO DO PROJETO FOLCL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UBLICAÇÃO DOS VÍDEOS NO FACEBOOK DA ESCOLA E NO GRUPO FECHADO DO FACEBOOK DA S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mpac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UBLICAÇÃO DO VÍDEO DOS ALUNOS NO YOUTU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STE EBA</cp:lastModifiedBy>
  <cp:lastPrinted>2015-02-25T21:45:26Z</cp:lastPrinted>
  <dcterms:modified xsi:type="dcterms:W3CDTF">2016-08-31T22:06:15Z</dcterms:modified>
  <cp:revision>261</cp:revision>
  <dc:subject/>
  <dc:title>PowerPoint Presentation</dc:title>
</cp:coreProperties>
</file>